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wmf" ContentType="image/x-wmf"/>
  <Override PartName="/ppt/media/image5.png" ContentType="image/png"/>
  <Override PartName="/ppt/media/image10.gif" ContentType="image/gif"/>
  <Override PartName="/ppt/media/image8.wmf" ContentType="image/x-wmf"/>
  <Override PartName="/ppt/media/image7.jpeg" ContentType="image/jpeg"/>
  <Override PartName="/ppt/media/image18.wmf" ContentType="image/x-wmf"/>
  <Override PartName="/ppt/media/image17.wmf" ContentType="image/x-wmf"/>
  <Override PartName="/ppt/media/image16.png" ContentType="image/png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15.wmf" ContentType="image/x-wmf"/>
  <Override PartName="/ppt/media/image4.gif" ContentType="image/gif"/>
  <Override PartName="/ppt/media/image9.jpeg" ContentType="image/jpeg"/>
  <Override PartName="/ppt/media/image11.jpeg" ContentType="image/jpeg"/>
  <Override PartName="/ppt/media/image6.wmf" ContentType="image/x-wmf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4397D-111F-4234-9778-879ECFF09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AA1E7-1E7B-449A-AC95-DEC217DB0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7A4C3-0622-44E3-98AB-2108D3EC0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9466F-FD3C-4B14-ACD0-EB2665A14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871E9-0359-4B5C-9D5A-6BF6415C3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39C85-24AD-4D3B-96C6-9745FA293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FB5F7-1A63-4C54-8C9B-77B412CE5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B04C5-7552-48B8-92CC-99B08D6A6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4C9AA-55EE-4AB5-9FD7-2602321ED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CC691-6DC1-4454-A56F-62F009F81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42960-DFA3-4384-B065-F24BD9EB2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35848-38C0-4666-A714-90D094491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74D19-8AD3-4845-B0C0-93B8B3589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9C729-1608-42C6-9278-B9872565A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64006-D487-46B4-A4AF-53697CF2F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0A1A0-B3AA-45C0-A57E-ABA64A9AB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A9D29-ACC7-4431-B703-8C89FBDB1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0DD83-6567-4CFA-8047-E602023D2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5865F-0A3F-4BDC-B768-C9F54B9CE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7BBE1-019B-478B-8485-E2EFC4464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1F268-28C0-4EF5-9EF7-949B0F0C6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1F68F-3A5B-4E85-BA68-606241455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FFA22-7391-4830-8186-9DAA66DDE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DA6D0-6738-4C9A-8939-DD8833CCF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44AE9-CA81-4EB4-A827-59713126C68E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137CC-0E8A-483E-8C28-C3D552C00DF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MSSN00821A0000%5B1%5D.wav" TargetMode="External"/><Relationship Id="rId2" Type="http://schemas.microsoft.com/office/2007/relationships/media" Target="file:///tmp/home/.config/libreoffice/4/user/gallery/MSSN00821A0000%5B1%5D.wav" TargetMode="External"/><Relationship Id="rId3" Type="http://schemas.openxmlformats.org/officeDocument/2006/relationships/image" Target="../media/image12.png"/><Relationship Id="rId4" Type="http://schemas.openxmlformats.org/officeDocument/2006/relationships/image" Target="../media/image13.wmf"/><Relationship Id="rId5" Type="http://schemas.openxmlformats.org/officeDocument/2006/relationships/image" Target="../media/image14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755e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gracia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84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Definition: a Spanish word for thank you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Base Word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ynonym: thank you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yllable: gra-ci-a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Antonym: your welcom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Inflection : ia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6019920" y="1906560"/>
            <a:ext cx="1836720" cy="7254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5867280" y="4267080"/>
            <a:ext cx="1820880" cy="1140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f00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Adio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84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Definition: a Spanish word for good buy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Base Word :adio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Inflection : o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ynonym: good by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yllable: A.di-o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Antonym: Hello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6032520" y="2319480"/>
            <a:ext cx="1714320" cy="10000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5959440" y="3957480"/>
            <a:ext cx="1865520" cy="1984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toryteller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84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Definition :A person that tells stori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Base word: story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Inflection: er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ynonym: reader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yllable : stor-y-tell.er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Antonyms: audienc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5999040" y="1927080"/>
            <a:ext cx="1785960" cy="178128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5649840" y="4572000"/>
            <a:ext cx="2122560" cy="1676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75752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glaring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84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Definition: To look at angrily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Base Word: glar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Inflection: 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ynonyms: stare madly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Antonyms: stare happily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yllable: glar-ing    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6000840" y="1884240"/>
            <a:ext cx="1779480" cy="18655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6529320" y="4340160"/>
            <a:ext cx="1008000" cy="1327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eager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84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Definition: excited and nervou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Base Word: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Inflection: er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ynonyms: really happy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yllables: ea-ger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Antonyms: really m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956200" y="1827360"/>
            <a:ext cx="2727360" cy="31701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7575"/>
            </a:gs>
            <a:gs pos="100000">
              <a:srgbClr val="00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hattered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84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Definition: to talk rapidly and foolishly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Base Word: Chatter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Inflection: e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yllable: chat-tere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Antonym: mut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724360" y="1827360"/>
            <a:ext cx="2329200" cy="19843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880240" y="3987720"/>
            <a:ext cx="2017440" cy="1925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cc"/>
            </a:gs>
            <a:gs pos="100000">
              <a:srgbClr val="75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borrow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84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Definition: To check out or to take with permission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Base Word :row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Inflection: row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ynonyms: len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yllable: bor-row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Antonyms: steal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5170320" y="2673360"/>
            <a:ext cx="3440160" cy="2422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Libro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84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cccc"/>
                </a:solidFill>
                <a:latin typeface="Verdana"/>
              </a:rPr>
              <a:t>Definition: A Spanish word for book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cccc"/>
                </a:solidFill>
                <a:latin typeface="Verdana"/>
              </a:rPr>
              <a:t>Base word: bro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cccc"/>
                </a:solidFill>
                <a:latin typeface="Verdana"/>
              </a:rPr>
              <a:t>Inflection: bro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Syllable: li.bro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Synonym: book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Antonym: magazine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6586560" y="1523880"/>
            <a:ext cx="1871640" cy="15811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6249960" y="3657600"/>
            <a:ext cx="1828800" cy="2284560"/>
          </a:xfrm>
          <a:prstGeom prst="rect">
            <a:avLst/>
          </a:prstGeom>
          <a:ln w="0">
            <a:noFill/>
          </a:ln>
        </p:spPr>
      </p:pic>
    </p:spTree>
  </p:cSld>
  <p:transition advTm="1000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313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6666"/>
                </a:solidFill>
                <a:latin typeface="Arial"/>
              </a:rPr>
              <a:t>Lap</a:t>
            </a:r>
            <a:endParaRPr b="0" lang="en-US" sz="6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33760" y="1523880"/>
            <a:ext cx="3809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1066320" y="1905120"/>
            <a:ext cx="409428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efinition : A </a:t>
            </a:r>
            <a:r>
              <a:rPr b="0" lang="en-US" sz="1800" spc="-1" strike="noStrike">
                <a:solidFill>
                  <a:srgbClr val="ff3300"/>
                </a:solidFill>
                <a:latin typeface="Verdana"/>
              </a:rPr>
              <a:t>flat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part of your legs when you sit dow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ase word :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yllable :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ntonyms: head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heck out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81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Definition : to take with permission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Base word :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yllable : check-out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ynonyms: borrow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0   Antonyms : stea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Inflection 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102280" y="1827360"/>
            <a:ext cx="3581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lap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81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Definition : To sip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Base word 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ynonym: drink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yllable 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Antonym : slurp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9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6248520" y="41911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4"/>
          <a:stretch/>
        </p:blipFill>
        <p:spPr>
          <a:xfrm>
            <a:off x="5410080" y="4343400"/>
            <a:ext cx="1457280" cy="18144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5"/>
          <a:stretch/>
        </p:blipFill>
        <p:spPr>
          <a:xfrm>
            <a:off x="6680160" y="1827360"/>
            <a:ext cx="2003400" cy="1604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19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19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633" fill="hold"/>
                                        <p:tgtEl>
                                          <p:spTgt spid="1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19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oosevelt3</cp:lastModifiedBy>
  <dcterms:modified xsi:type="dcterms:W3CDTF">2008-10-31T15:50:36Z</dcterms:modified>
  <cp:revision>22</cp:revision>
  <dc:subject/>
  <dc:title>PowerPoint Presentation</dc:title>
</cp:coreProperties>
</file>